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0EE1CAA1-E176-44D3-B691-57A0509B18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028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660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172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24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760" y="167616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24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760" y="3936600"/>
            <a:ext cx="252180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565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1720" y="393660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1720" y="1676160"/>
            <a:ext cx="382212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6600"/>
            <a:ext cx="783288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67896591-D0D4-41CA-8FD3-BA415FC72E25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5656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288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37484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890960" y="2435400"/>
            <a:ext cx="68904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557388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69432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ompileerimine ja interpreteeri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150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mine / interpreteerimine: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14320" y="83664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väikeseid reaalseid näit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ompileerimine: otse masinkood</a:t>
            </a: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Pythoni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terpreteerimine: high-level vahekood, mida interpreteeri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Java: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programm low-level baitkoodiks (pseudo-assembler), mida interpreteeritakse ja siis töö käigus jupiti/valikuliselt masinkoodi kompileeri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155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60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aatori osad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838080" y="66672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asutame õpetust/näiteid si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s://web.eecs.utk.edu/~azh/blog/teenytinycompiler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isendiks lihtsustatud BASIC, väljundiks C. Sisendi näi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How many fibonacci numbers do you want?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nu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a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b =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nums &gt; 0 REP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c = a +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a =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b =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nums = nums -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66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samm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71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838080" y="1700280"/>
            <a:ext cx="720108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3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exer: tekst kirjeldusega varustatud tükkid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00280" y="746280"/>
            <a:ext cx="784836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77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90732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38080" y="73188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xer jagab teksti “sõnadeks” ja parser ehitab neist pu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83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639720" y="2651040"/>
            <a:ext cx="804852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14400" y="299520"/>
            <a:ext cx="7761240" cy="303480"/>
            <a:chOff x="914400" y="299520"/>
            <a:chExt cx="7761240" cy="303480"/>
          </a:xfrm>
        </p:grpSpPr>
        <p:sp>
          <p:nvSpPr>
            <p:cNvPr id="189" name="Line 4"/>
            <p:cNvSpPr/>
            <p:nvPr/>
          </p:nvSpPr>
          <p:spPr>
            <a:xfrm>
              <a:off x="914400" y="596880"/>
              <a:ext cx="77547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75640" y="299520"/>
              <a:ext cx="0" cy="303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ordamin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masinalähedane proge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ompileerimi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eelte põhi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el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pulaarsused ja k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5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rser: lexitud jada süntaksile vastavaks puu-struktuuri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195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90400" y="1817640"/>
            <a:ext cx="8267760" cy="32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Veel üks 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ntaksipuu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 näide (mitte BASI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7960" indent="-320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01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"/>
          <p:cNvSpPr/>
          <p:nvPr/>
        </p:nvSpPr>
        <p:spPr>
          <a:xfrm>
            <a:off x="838080" y="1089000"/>
            <a:ext cx="2293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0880" indent="-19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9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Grammatika meie lihtsustatud BASICu ja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44560" y="77328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 ::= {statement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ement ::= "PRINT" (expression | string)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IF" comparison "THEN" nl {statement} "ENDIF"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WHILE" comparison "REPEAT" nl {statement} "ENDWHILE"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LABEL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GOTO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LET" ident "=" expression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| "INPUT" ident n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mparison ::= expression (("==" | "!=" | "&gt;" | "&gt;=" | "&lt;" | "&lt;=") expression)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pression ::= term {( "-" | "+" ) term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rm ::= unary {( "/" | "*" ) unary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ary ::= ["+" | "-"] prim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mary ::= number | 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l ::= '\n'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08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Puu läbikäimine väljundiks: v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https://web.eecs.utk.edu/~azh/blog/teenytinycompiler3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13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isend (BASIC) ja väljund 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38080" y="1065240"/>
            <a:ext cx="351792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 "How many numbers?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INPUT nu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a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b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WHILE nums &gt; 0 REPE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c = a +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a =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b 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T nums = nums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ENDWHILE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1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Text Box 2"/>
          <p:cNvSpPr/>
          <p:nvPr/>
        </p:nvSpPr>
        <p:spPr>
          <a:xfrm>
            <a:off x="4356000" y="1066680"/>
            <a:ext cx="351792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int main(void)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float nums, a, b,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How many numbers?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scanf("%f", &amp;num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a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b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while(nums&gt;0)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printf("%.2f\n", (float)(a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c = a+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a = 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b =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ums = nums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ptimeerimine on protsessi lõp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2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ptimeerimise põhio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28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266920" y="1773360"/>
            <a:ext cx="46911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oleks interpreteerimises erinev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539640" y="836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e ei genereeriks väljundkoodi, vaid kasutaks sama puud otse töötamiseks, a la interpretaator hakkab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ud otse täitma / rehkendusi teg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3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reewalk tüüpi mikrointerpretaator pytho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501480" y="87300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xample=["+",2,["*",4,5]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valuating ",str(example)," gives 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evaluate(example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 evaluate(term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type(term)==int or type(term)==float: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e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type(term)==lis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p=term[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op=="+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+evaluate(term[2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*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*evaluate(term[2]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-"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-evaluate(term[2]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if op=="/"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evaluate(term[1])/evaluate(term[2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rror: unknown operator ",str(op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0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("error: unknown argument type of ",str(term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3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Interpreteerimise k</a:t>
            </a:r>
            <a:r>
              <a:rPr b="1" lang="en-GB" sz="2400" spc="-1" strike="noStrike">
                <a:solidFill>
                  <a:srgbClr val="2d2db9"/>
                </a:solidFill>
                <a:latin typeface="Calibri"/>
                <a:ea typeface="Calibri"/>
              </a:rPr>
              <a:t>ompromissvaria</a:t>
            </a: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kompileerib X faili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vahekoodik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Y, seejärel interpreteeritakse vahekoodi Y (Python, Jav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rpretaator interpreteerib vahekoodi Y, kui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ileerib töö ajal osa Y-st masinkoodik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, mida seejärel täidab (Java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C#, Firefoxi Javascrip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 nn just-in-time compilation ehk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JI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4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itstream Vera Sans"/>
              </a:rPr>
              <a:t>Kordamin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itstream Vera Sans"/>
              </a:rPr>
              <a:t>masinalähedane proge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249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417600"/>
            <a:ext cx="7764480" cy="309600"/>
            <a:chOff x="914400" y="417600"/>
            <a:chExt cx="7764480" cy="309600"/>
          </a:xfrm>
        </p:grpSpPr>
        <p:sp>
          <p:nvSpPr>
            <p:cNvPr id="254" name="Line 4"/>
            <p:cNvSpPr/>
            <p:nvPr/>
          </p:nvSpPr>
          <p:spPr>
            <a:xfrm>
              <a:off x="914400" y="7207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78880" y="4176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59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Calibri"/>
                <a:ea typeface="Calibri"/>
              </a:rPr>
              <a:t>Kompileerimine, vahekood, i</a:t>
            </a:r>
            <a:r>
              <a:rPr b="1" lang="et-EE" sz="2400" spc="-1" strike="noStrike">
                <a:solidFill>
                  <a:srgbClr val="2d2db9"/>
                </a:solidFill>
                <a:latin typeface="Calibri"/>
                <a:ea typeface="Calibri"/>
              </a:rPr>
              <a:t>nterpreteerimi</a:t>
            </a:r>
            <a:r>
              <a:rPr b="1" lang="en-US" sz="2400" spc="-1" strike="noStrike">
                <a:solidFill>
                  <a:srgbClr val="2d2db9"/>
                </a:solidFill>
                <a:latin typeface="Calibri"/>
                <a:ea typeface="Calibri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911160" y="600120"/>
            <a:ext cx="7764480" cy="309600"/>
            <a:chOff x="911160" y="600120"/>
            <a:chExt cx="7764480" cy="309600"/>
          </a:xfrm>
        </p:grpSpPr>
        <p:sp>
          <p:nvSpPr>
            <p:cNvPr id="264" name="Line 4"/>
            <p:cNvSpPr/>
            <p:nvPr/>
          </p:nvSpPr>
          <p:spPr>
            <a:xfrm>
              <a:off x="911160" y="903600"/>
              <a:ext cx="77562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75640" y="60012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33320" y="1628640"/>
            <a:ext cx="7596360" cy="426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elte põhi-id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72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utomatiseerivad ja lihtsustavad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hulga “harilikke” protseduure, mida assembleris programmeerides v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i anna assembleriga analoogilist kontrolli masina ü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õrgkeeled on erineva abstraktsusastmeg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sinalähedane ja ebamugav:  Fortran, C  (portaabel assembl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bstraktsem ja mugavam:  Lisp, Ada, ML, Java, Python, Javascrip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eale programmeerimiskeelte on veel hulk muid kee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äringukeeled (SQL, RDQL, .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Kujunduskeeled (HTML, PS, 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petsifitseerimiskeeled (UML, VHDL, ....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oogika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277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39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82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escription language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: for data re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{“name”: “John Smith”, “age”: 35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ddress”:  {“city”:”Tallinn”, “street”: “Mere”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tex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&lt;h1&gt;Pealkiri&lt;/h1&gt;&lt;p&gt;üks &lt;b&gt;bold sõna&lt;/b&gt;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for database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ect name, age  from persons where age&gt;1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39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696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287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Keeled arenevad olemasolevate baasil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s://exploring-data.com/vis/programming-languages-influence-networ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292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301680"/>
            <a:ext cx="7764480" cy="301680"/>
            <a:chOff x="914400" y="301680"/>
            <a:chExt cx="7764480" cy="30168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583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301680"/>
              <a:ext cx="0" cy="301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5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kolm põhi-erinevustee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297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ilised asjad igas normaalses kee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825480" y="457200"/>
            <a:ext cx="7764480" cy="309600"/>
            <a:chOff x="825480" y="457200"/>
            <a:chExt cx="7764480" cy="309600"/>
          </a:xfrm>
        </p:grpSpPr>
        <p:sp>
          <p:nvSpPr>
            <p:cNvPr id="302" name="Line 4"/>
            <p:cNvSpPr/>
            <p:nvPr/>
          </p:nvSpPr>
          <p:spPr>
            <a:xfrm>
              <a:off x="82548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58996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avõimalused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07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grammmeerimiskeel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äite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ama summeerimise ülesande ja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1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1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2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2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3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39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344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914400" y="457200"/>
            <a:ext cx="7764480" cy="309600"/>
            <a:chOff x="914400" y="457200"/>
            <a:chExt cx="7764480" cy="309600"/>
          </a:xfrm>
        </p:grpSpPr>
        <p:sp>
          <p:nvSpPr>
            <p:cNvPr id="349" name="Line 4"/>
            <p:cNvSpPr/>
            <p:nvPr/>
          </p:nvSpPr>
          <p:spPr>
            <a:xfrm>
              <a:off x="914400" y="76068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 flipV="1">
              <a:off x="8678880" y="4572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pulaarsused 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38080" y="755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Eri valdkondades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n populaarsed erinevad keel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Tiobe: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suht universaalne pikaajaline populaarsus-indeks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://www.tiobe.com/index.php/content/paperinfo/tpci/index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Githubi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indeks: enamik on väikesed või hobiprojek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madnight.github.io/githut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Nõudlu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järgi (USA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www.codeplatoon.org/best-paying-most-in-demand-programming-languages-2020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00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356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6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38080" y="75564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Vaata benchma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https://benchmarksgame-team.pages.debian.net/benchmarksgam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Olulised poi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Enamasti on kiiruse jaoks oluline väike osa koodist, mis töötab väga palju kord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Tavalistes nn ärirakendustes on kiiruse jaoks enamasti kriitiline andmebaasist lugemise / kirjutamise, võrguühenduste ja kettalt lugemise / kirjutamise kiirus: programm ise ei ole kiiruse jaoks tihtitpeale kriiti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Sestap näiteks Python on enamasti OK, kuigi ta on suhteliselt väga aeglane. Reaalselt kiirust nõudvaid osi (näiteks masinõppes jne) saab tihti katta eriteekidega, mis tüüpiliselt C-s kirjuta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822240" y="731880"/>
            <a:ext cx="7764480" cy="309600"/>
            <a:chOff x="822240" y="731880"/>
            <a:chExt cx="7764480" cy="309600"/>
          </a:xfrm>
        </p:grpSpPr>
        <p:sp>
          <p:nvSpPr>
            <p:cNvPr id="361" name="Line 4"/>
            <p:cNvSpPr/>
            <p:nvPr/>
          </p:nvSpPr>
          <p:spPr>
            <a:xfrm>
              <a:off x="822240" y="103536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V="1">
              <a:off x="8586720" y="73188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6880" indent="-326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7000"/>
            <a:ext cx="7764480" cy="309600"/>
            <a:chOff x="914400" y="297000"/>
            <a:chExt cx="7764480" cy="30960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565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7000"/>
              <a:ext cx="0" cy="30960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83808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68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2688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000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1694880" y="873000"/>
            <a:ext cx="5748480" cy="4903920"/>
            <a:chOff x="1694880" y="873000"/>
            <a:chExt cx="5748480" cy="4903920"/>
          </a:xfrm>
        </p:grpSpPr>
        <p:sp>
          <p:nvSpPr>
            <p:cNvPr id="102" name="Rectangle 3"/>
            <p:cNvSpPr/>
            <p:nvPr/>
          </p:nvSpPr>
          <p:spPr>
            <a:xfrm>
              <a:off x="16948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09640" y="2279520"/>
              <a:ext cx="1059120" cy="5256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257640" y="1482840"/>
              <a:ext cx="1058760" cy="677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6"/>
            <p:cNvSpPr/>
            <p:nvPr/>
          </p:nvSpPr>
          <p:spPr>
            <a:xfrm>
              <a:off x="2243160" y="1371600"/>
              <a:ext cx="0" cy="9000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 flipV="1">
              <a:off x="2795760" y="1928880"/>
              <a:ext cx="433080" cy="596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23706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3691080" y="2168640"/>
              <a:ext cx="509400" cy="8301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4208400" y="2778120"/>
              <a:ext cx="120348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4757760" y="3200400"/>
              <a:ext cx="0" cy="442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4757760" y="4191120"/>
              <a:ext cx="0" cy="823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2776680" y="5022720"/>
              <a:ext cx="4336920" cy="754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6512040" y="1371600"/>
              <a:ext cx="0" cy="9000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656316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H="1">
              <a:off x="5210280" y="2895480"/>
              <a:ext cx="769680" cy="138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369360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29T14:17:20Z</dcterms:modified>
  <cp:revision>80</cp:revision>
  <dc:subject/>
  <dc:title>PowerPoint Presentation</dc:title>
</cp:coreProperties>
</file>